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BEB-A1B2-4EA6-89A6-368E1AD2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F7F-C1FB-4369-B90B-5C113543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410-E4CA-4946-BF72-A3279A8D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A7D-0C7E-4173-935E-A855D5A2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B309-E9FE-42DF-855E-913CC896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A518-2841-4243-A936-3E2A93AF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6FCB-681A-41D1-BE48-D61E46BF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10EC-1C24-4963-BBC6-7DBD4813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AB95-23B2-44EE-A407-E10E7361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584B-01DB-4599-B22D-D0BB89DB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8CA4-C27F-45E9-8501-63F3FCD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D56-CA05-4D35-9DA2-E239E815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4514-B4A0-4598-9BED-6D37D2D8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4B2D-D504-4B4E-B3F7-563122E2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F552-4FAD-4C0E-AA3C-5BEBB069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955F-15A1-46C6-86C3-F46DE668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13D3-F609-4684-AF77-D3E64BD6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668-4B74-4DC2-9497-2A06DBC0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8F9-768C-4F24-985D-59FB9F78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B29-D4C5-4D39-97CA-9FB6617D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3B8-B5F7-4B36-9B52-4F3A31AB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2F2-F81F-4C45-875A-85507354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2C3-DA44-4041-B036-6F8A0512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D06-1665-4CBF-B331-72BD99E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2966-2EAC-40A8-9FA3-F3CE65753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FCC4-49D7-4419-B3A3-EA5CD6957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580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22cd"/>
                </a:solidFill>
                <a:latin typeface="Times New Roman"/>
              </a:rPr>
              <a:t>2</a:t>
            </a:r>
            <a:r>
              <a:rPr b="0" i="1" lang="en-US" sz="4400" spc="-1" strike="noStrike" baseline="30000">
                <a:solidFill>
                  <a:srgbClr val="1822cd"/>
                </a:solidFill>
                <a:latin typeface="Times New Roman"/>
              </a:rPr>
              <a:t>nd</a:t>
            </a:r>
            <a:r>
              <a:rPr b="0" i="1" lang="en-US" sz="4400" spc="-1" strike="noStrike">
                <a:solidFill>
                  <a:srgbClr val="1822cd"/>
                </a:solidFill>
                <a:latin typeface="Times New Roman"/>
              </a:rPr>
              <a:t> grade</a:t>
            </a:r>
            <a:br>
              <a:rPr sz="4400"/>
            </a:br>
            <a:r>
              <a:rPr b="0" i="1" lang="en-US" sz="4400" spc="-1" strike="noStrike">
                <a:solidFill>
                  <a:srgbClr val="1822cd"/>
                </a:solidFill>
                <a:latin typeface="Times New Roman"/>
              </a:rPr>
              <a:t>Maps and Geography Uni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WordArt 6"/>
          <p:cNvSpPr txBox="1"/>
          <p:nvPr/>
        </p:nvSpPr>
        <p:spPr>
          <a:xfrm>
            <a:off x="1752480" y="1295280"/>
            <a:ext cx="5715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7086600" y="60199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Show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ak View El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638712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4572000" y="2971800"/>
            <a:ext cx="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3276360" y="4191120"/>
            <a:ext cx="251460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267080" y="2362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716440" y="3809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2668680" y="380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4345200" y="541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762120" y="2895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How is a map different from a glob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066680" y="28195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 map is a flat picture of the Earth, and a globe is a model of the Earth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7030440" y="5262480"/>
            <a:ext cx="37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Tahoma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925560" y="2514600"/>
            <a:ext cx="640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Virginia’s shape is most like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triang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qu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circ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rectang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1120" y="2286000"/>
            <a:ext cx="75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Virginia’s shape is most like a triangle (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669204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Picture 7" descr="MP00217_"/>
          <p:cNvPicPr/>
          <p:nvPr/>
        </p:nvPicPr>
        <p:blipFill>
          <a:blip r:embed="rId1"/>
          <a:stretch/>
        </p:blipFill>
        <p:spPr>
          <a:xfrm>
            <a:off x="2438280" y="3048120"/>
            <a:ext cx="45831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533520" y="2514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is the name of this river in Virgin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Picture 5" descr="Virginia (James)"/>
          <p:cNvPicPr/>
          <p:nvPr/>
        </p:nvPicPr>
        <p:blipFill>
          <a:blip r:embed="rId1"/>
          <a:stretch/>
        </p:blipFill>
        <p:spPr>
          <a:xfrm>
            <a:off x="2209680" y="3352680"/>
            <a:ext cx="45817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515400" y="48769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James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821592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7" descr="Virginia (James)"/>
          <p:cNvPicPr/>
          <p:nvPr/>
        </p:nvPicPr>
        <p:blipFill>
          <a:blip r:embed="rId1"/>
          <a:stretch/>
        </p:blipFill>
        <p:spPr>
          <a:xfrm>
            <a:off x="2362320" y="228600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914400" y="22860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dot on this map of Virginia is Richmond (red or blue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6" descr="Virginia H'burg &amp; Richmond"/>
          <p:cNvPicPr/>
          <p:nvPr/>
        </p:nvPicPr>
        <p:blipFill>
          <a:blip r:embed="rId1"/>
          <a:stretch/>
        </p:blipFill>
        <p:spPr>
          <a:xfrm>
            <a:off x="2286000" y="335268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321200" y="4800600"/>
            <a:ext cx="67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Richmond is the </a:t>
            </a:r>
            <a:r>
              <a:rPr b="1" lang="en-US" sz="2800" spc="-1" strike="noStrike">
                <a:solidFill>
                  <a:srgbClr val="cc0000"/>
                </a:solidFill>
                <a:latin typeface="Arial MT Condensed Light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dot on this ma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7987320" y="5522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Picture 7" descr="Virginia H'burg &amp; Richmond"/>
          <p:cNvPicPr/>
          <p:nvPr/>
        </p:nvPicPr>
        <p:blipFill>
          <a:blip r:embed="rId1"/>
          <a:stretch/>
        </p:blipFill>
        <p:spPr>
          <a:xfrm>
            <a:off x="2286000" y="228600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96520" y="2438280"/>
            <a:ext cx="80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is the blue dot on this map of Virgin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Picture 5" descr="Virginia H'burg &amp; Richmond"/>
          <p:cNvPicPr/>
          <p:nvPr/>
        </p:nvPicPr>
        <p:blipFill>
          <a:blip r:embed="rId1"/>
          <a:stretch/>
        </p:blipFill>
        <p:spPr>
          <a:xfrm>
            <a:off x="2286000" y="335268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22cd"/>
                </a:solidFill>
                <a:latin typeface="Times New Roman"/>
              </a:rPr>
              <a:t>Maps &amp; Geography Jeopardy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380880" y="838080"/>
          <a:ext cx="8458200" cy="48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4582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4"/>
          <p:cNvSpPr/>
          <p:nvPr/>
        </p:nvSpPr>
        <p:spPr>
          <a:xfrm>
            <a:off x="533520" y="9144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cabulary &amp; Map Par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733920" y="990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ea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8760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876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6876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68760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68760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228780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556452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396432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724068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22878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96432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556452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724068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22878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396432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556452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724068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27"/>
          <p:cNvSpPr/>
          <p:nvPr/>
        </p:nvSpPr>
        <p:spPr>
          <a:xfrm>
            <a:off x="228780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396432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556452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724068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1"/>
          <p:cNvSpPr/>
          <p:nvPr/>
        </p:nvSpPr>
        <p:spPr>
          <a:xfrm>
            <a:off x="228780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396432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556452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724068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47"/>
          <p:cNvSpPr/>
          <p:nvPr/>
        </p:nvSpPr>
        <p:spPr>
          <a:xfrm>
            <a:off x="6027120" y="5791320"/>
            <a:ext cx="217728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48"/>
          <p:cNvSpPr/>
          <p:nvPr/>
        </p:nvSpPr>
        <p:spPr>
          <a:xfrm>
            <a:off x="5486400" y="990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49"/>
          <p:cNvSpPr/>
          <p:nvPr/>
        </p:nvSpPr>
        <p:spPr>
          <a:xfrm>
            <a:off x="244044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7242840" y="99072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239400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78350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Picture 7" descr="Virginia H'burg &amp; Richmond"/>
          <p:cNvPicPr/>
          <p:nvPr/>
        </p:nvPicPr>
        <p:blipFill>
          <a:blip r:embed="rId1"/>
          <a:stretch/>
        </p:blipFill>
        <p:spPr>
          <a:xfrm>
            <a:off x="2286000" y="2209680"/>
            <a:ext cx="4581360" cy="2343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8"/>
          <p:cNvSpPr/>
          <p:nvPr/>
        </p:nvSpPr>
        <p:spPr>
          <a:xfrm>
            <a:off x="2575080" y="4756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916920" y="4724280"/>
            <a:ext cx="75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</a:t>
            </a:r>
            <a:r>
              <a:rPr b="1" lang="en-US" sz="2800" spc="-1" strike="noStrike">
                <a:solidFill>
                  <a:srgbClr val="1822cd"/>
                </a:solidFill>
                <a:latin typeface="Arial MT Condensed Light"/>
              </a:rPr>
              <a:t>blu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dot on this map is Harrisonbur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88240" y="2209680"/>
            <a:ext cx="80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mountain range is shown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Picture 5" descr="Virginia (Appalachian)"/>
          <p:cNvPicPr/>
          <p:nvPr/>
        </p:nvPicPr>
        <p:blipFill>
          <a:blip r:embed="rId1"/>
          <a:stretch/>
        </p:blipFill>
        <p:spPr>
          <a:xfrm>
            <a:off x="2286000" y="297180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1918080" y="4800600"/>
            <a:ext cx="55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ppalachian Mountai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46344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Picture 6" descr="Virginia (Appalachian)"/>
          <p:cNvPicPr/>
          <p:nvPr/>
        </p:nvPicPr>
        <p:blipFill>
          <a:blip r:embed="rId1"/>
          <a:stretch/>
        </p:blipFill>
        <p:spPr>
          <a:xfrm>
            <a:off x="2362320" y="228600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747360" y="243828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10" descr="Atlantic"/>
          <p:cNvPicPr/>
          <p:nvPr/>
        </p:nvPicPr>
        <p:blipFill>
          <a:blip r:embed="rId1"/>
          <a:stretch/>
        </p:blipFill>
        <p:spPr>
          <a:xfrm>
            <a:off x="1676520" y="31240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2967840" y="563868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tlantic Oce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75301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Picture 6" descr="Atlantic"/>
          <p:cNvPicPr/>
          <p:nvPr/>
        </p:nvPicPr>
        <p:blipFill>
          <a:blip r:embed="rId1"/>
          <a:stretch/>
        </p:blipFill>
        <p:spPr>
          <a:xfrm>
            <a:off x="1752480" y="21337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762120" y="25146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5" descr="Pacific"/>
          <p:cNvPicPr/>
          <p:nvPr/>
        </p:nvPicPr>
        <p:blipFill>
          <a:blip r:embed="rId1"/>
          <a:stretch/>
        </p:blipFill>
        <p:spPr>
          <a:xfrm>
            <a:off x="1752480" y="32004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3334320" y="571500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79110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4" name="Picture 7" descr="Pacific"/>
          <p:cNvPicPr/>
          <p:nvPr/>
        </p:nvPicPr>
        <p:blipFill>
          <a:blip r:embed="rId1"/>
          <a:stretch/>
        </p:blipFill>
        <p:spPr>
          <a:xfrm>
            <a:off x="1752480" y="22096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747360" y="228600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7" name="Picture 5" descr="Arctic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478320" y="57913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82159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9" descr="Arctic"/>
          <p:cNvPicPr/>
          <p:nvPr/>
        </p:nvPicPr>
        <p:blipFill>
          <a:blip r:embed="rId1"/>
          <a:stretch/>
        </p:blipFill>
        <p:spPr>
          <a:xfrm>
            <a:off x="1676520" y="22096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685800" y="2362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6" descr="Indian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914400" y="25146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ymbo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look like people.</a:t>
            </a: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re not on a ma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tand for something else on a ma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tand for s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200400" y="56386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dian Oce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81396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6" descr="Indian"/>
          <p:cNvPicPr/>
          <p:nvPr/>
        </p:nvPicPr>
        <p:blipFill>
          <a:blip r:embed="rId1"/>
          <a:stretch/>
        </p:blipFill>
        <p:spPr>
          <a:xfrm>
            <a:off x="1752480" y="22096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1440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3 oceans touch North Ameri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6" descr="Continents"/>
          <p:cNvPicPr/>
          <p:nvPr/>
        </p:nvPicPr>
        <p:blipFill>
          <a:blip r:embed="rId1"/>
          <a:stretch/>
        </p:blipFill>
        <p:spPr>
          <a:xfrm>
            <a:off x="1752480" y="29718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441440" y="5715000"/>
            <a:ext cx="63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tlantic, Pacific, and Arctic Oc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8215920" y="605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Continents"/>
          <p:cNvPicPr/>
          <p:nvPr/>
        </p:nvPicPr>
        <p:blipFill>
          <a:blip r:embed="rId1"/>
          <a:stretch/>
        </p:blipFill>
        <p:spPr>
          <a:xfrm>
            <a:off x="1676520" y="22096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304920" y="2286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letter on this map is the Mississippi Riv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Picture 5" descr="United States"/>
          <p:cNvPicPr/>
          <p:nvPr/>
        </p:nvPicPr>
        <p:blipFill>
          <a:blip r:embed="rId1"/>
          <a:stretch/>
        </p:blipFill>
        <p:spPr>
          <a:xfrm>
            <a:off x="2133720" y="3048120"/>
            <a:ext cx="49435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1806840" y="5867280"/>
            <a:ext cx="57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C is the Mississippi Riv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813960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2" name="Picture 6" descr="United States"/>
          <p:cNvPicPr/>
          <p:nvPr/>
        </p:nvPicPr>
        <p:blipFill>
          <a:blip r:embed="rId1"/>
          <a:stretch/>
        </p:blipFill>
        <p:spPr>
          <a:xfrm>
            <a:off x="2209680" y="2362320"/>
            <a:ext cx="49435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-209160" y="2286000"/>
            <a:ext cx="95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letter shows the mountains closest to Virgin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5" name="Picture 5" descr="United States"/>
          <p:cNvPicPr/>
          <p:nvPr/>
        </p:nvPicPr>
        <p:blipFill>
          <a:blip r:embed="rId1"/>
          <a:stretch/>
        </p:blipFill>
        <p:spPr>
          <a:xfrm>
            <a:off x="2133720" y="3048120"/>
            <a:ext cx="49435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582200" y="5867280"/>
            <a:ext cx="63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E – Appalachian Mountai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836820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Picture 6" descr="United States"/>
          <p:cNvPicPr/>
          <p:nvPr/>
        </p:nvPicPr>
        <p:blipFill>
          <a:blip r:embed="rId1"/>
          <a:stretch/>
        </p:blipFill>
        <p:spPr>
          <a:xfrm>
            <a:off x="2209680" y="2209680"/>
            <a:ext cx="49435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838080" y="2362320"/>
            <a:ext cx="7543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river divides Texas from Mexic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Rio Grande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Mississippi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James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407600" y="3048120"/>
            <a:ext cx="643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Rio Grande River divides Tex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from Mexico (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8292240" y="5979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762120" y="2286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is the name of the region labeled ‘D’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Picture 5" descr="United States"/>
          <p:cNvPicPr/>
          <p:nvPr/>
        </p:nvPicPr>
        <p:blipFill>
          <a:blip r:embed="rId1"/>
          <a:stretch/>
        </p:blipFill>
        <p:spPr>
          <a:xfrm>
            <a:off x="2133720" y="3048120"/>
            <a:ext cx="49435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36600" y="3048120"/>
            <a:ext cx="85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ymbols stand for something else on a map (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7606440" y="567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2002680" y="586728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D - Great Lakes Reg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82159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1" name="Picture 6" descr="United States"/>
          <p:cNvPicPr/>
          <p:nvPr/>
        </p:nvPicPr>
        <p:blipFill>
          <a:blip r:embed="rId1"/>
          <a:stretch/>
        </p:blipFill>
        <p:spPr>
          <a:xfrm>
            <a:off x="2133720" y="2286000"/>
            <a:ext cx="49435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066680" y="2666880"/>
            <a:ext cx="7010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mountain range is on the western side of the United 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Massanut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ppalachian Mount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Rocky Mount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50280" y="2895480"/>
            <a:ext cx="85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Rocky Mountains are on th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western side of the United States (c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78350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28120" y="2362320"/>
            <a:ext cx="80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cc0000"/>
                </a:solidFill>
                <a:latin typeface="Arial MT Condensed Light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9" name="Picture 5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282840" y="579132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ntarct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91100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Picture 6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380880" y="2286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6600cc"/>
                </a:solidFill>
                <a:latin typeface="Arial MT Condensed Light"/>
              </a:rPr>
              <a:t>purpl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6" name="Picture 6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2990160" y="586728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South Amer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8063640" y="5979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0" name="Picture 7" descr="Continents"/>
          <p:cNvPicPr/>
          <p:nvPr/>
        </p:nvPicPr>
        <p:blipFill>
          <a:blip r:embed="rId1"/>
          <a:stretch/>
        </p:blipFill>
        <p:spPr>
          <a:xfrm>
            <a:off x="1676520" y="228600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90920" y="990360"/>
            <a:ext cx="40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304920" y="2286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ff9933"/>
                </a:solidFill>
                <a:latin typeface="Arial MT Condensed Light"/>
              </a:rPr>
              <a:t>orang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3" name="Picture 8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3597120" y="579132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81396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7" name="Picture 6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33520" y="22860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3366ff"/>
                </a:solidFill>
                <a:latin typeface="Arial MT Condensed Light"/>
              </a:rPr>
              <a:t>blu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0" name="Picture 6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990720" y="236232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equator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 place at the north p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n imaginary line running around the middle of the Earth on a map or a glo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not on a ma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not on a glo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3784320" y="5791320"/>
            <a:ext cx="15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80636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4" name="Picture 6" descr="Continents"/>
          <p:cNvPicPr/>
          <p:nvPr/>
        </p:nvPicPr>
        <p:blipFill>
          <a:blip r:embed="rId1"/>
          <a:stretch/>
        </p:blipFill>
        <p:spPr>
          <a:xfrm>
            <a:off x="1600200" y="228600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914400" y="22860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2 continents are mostly conne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7" name="Picture 8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791080" y="586728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Europe and As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852084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1" name="Picture 7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8"/>
          <p:cNvSpPr txBox="1"/>
          <p:nvPr/>
        </p:nvSpPr>
        <p:spPr>
          <a:xfrm>
            <a:off x="1143000" y="114300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2608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380880" y="4114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y is the Pacific Ocean shown in two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laces on a map of the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150840" y="3581280"/>
            <a:ext cx="885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Pacific Ocean is shown in tw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places on a map of the world becaus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world is round, but a map is flat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 order to make it flat, they had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divide the ocean in half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WordArt 5"/>
          <p:cNvSpPr txBox="1"/>
          <p:nvPr/>
        </p:nvSpPr>
        <p:spPr>
          <a:xfrm>
            <a:off x="1752480" y="1295280"/>
            <a:ext cx="55627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869400" y="2895480"/>
            <a:ext cx="753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equator is an imaginary line run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round the middle of the Earth on a ma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or a globe (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76800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066680" y="3352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are the three (3) parts of a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87080" y="274320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itle, compass rose (or direction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dicator), and legend (or map ke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83504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43000" y="23623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Identify the directions on this compass ro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676520" y="36576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4572000" y="3733920"/>
            <a:ext cx="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0"/>
          <p:cNvSpPr/>
          <p:nvPr/>
        </p:nvSpPr>
        <p:spPr>
          <a:xfrm flipH="1">
            <a:off x="3276360" y="4952880"/>
            <a:ext cx="251460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aula</cp:lastModifiedBy>
  <dcterms:modified xsi:type="dcterms:W3CDTF">2011-09-27T23:38:06Z</dcterms:modified>
  <cp:revision>92</cp:revision>
  <dc:subject/>
  <dc:title>Jeopardy</dc:title>
</cp:coreProperties>
</file>